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1CE-1627-472A-8F92-098E382A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24E-E36F-4916-A935-4B1C81C0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68D-1572-4CC2-8944-46EC7D88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04E-2C9D-4DF5-B858-173430B0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3AC-E5C4-496E-ABAE-19B352A8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519-327D-4A97-A722-0C1FAC42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157-AE9C-4E8B-90AB-7BD49EB9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D38-1960-4307-8AAA-4534AD63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AC6-C6EC-4234-B36A-E1EA6BED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59B-3FE0-4CA7-AA8A-EA335638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B44-FD70-44AE-B271-076795A9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4F8-F071-448D-B379-38CCC002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C95D-C8CB-4A9F-B5AD-ED56EBE23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-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identify and explain cause and effect situ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atch the video.  Write down a cause and effect situati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ecause…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cau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effec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ghting for Fairness” Graphic Organizer on Cause an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e work on a cause and effect example together, finish the graphic organizer on your ow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nish, read quietly until we are all ready to discuss cause and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oose an article from the front of the room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LET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 annotations on the artic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 RR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the RRJ, answer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re the people in your article affected by the actions of others that discriminated against th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for RR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article I 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(maybe a group of peo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_____________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use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maybe the group discriminated against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…_(feel, not be able to…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know this is true beca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text evidence #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rticle also mentioned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(text evidence #2)                                                    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helped me understand…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ideas in articles and discover more cause/effect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0:51:10Z</dcterms:created>
  <dc:creator>Administrator</dc:creator>
  <dc:description/>
  <dc:language>en-US</dc:language>
  <cp:lastModifiedBy>Administrator</cp:lastModifiedBy>
  <dcterms:modified xsi:type="dcterms:W3CDTF">2010-08-31T21:17:34Z</dcterms:modified>
  <cp:revision>4</cp:revision>
  <dc:subject/>
  <dc:title>9-2 I can identify and explain cause and effect situations.</dc:title>
</cp:coreProperties>
</file>